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181-8FAF-4BCC-BF43-093F776B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E99-A020-4AE8-A082-252A702B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B14A0-C74B-49D3-8AEE-ED01975C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4B4E8-3304-49EB-9E2B-B91FA045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3219C-33F5-459A-8ABE-F79306B3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1CF9B-2DC9-42A8-8FBD-90097E72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0C2DE-EDD1-4FDE-84ED-636E5C70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87D65-BC70-4837-818B-B34DFF77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19B12-9F41-41C8-B99E-8148CDD4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4D63E-BFE5-4FF5-9A15-3CC6851C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7FB7C-2539-4BBB-9284-B93152C1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AF3F9-7152-4A64-B391-BADD4F70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82F-E968-4D0A-AB77-49154052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0C97A-B2B9-4B8B-BE82-18A5758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A9EA0-7FF9-47B1-9707-851AD3BB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4E8B5-307B-4135-8115-8C60632B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79831-90CF-4AA0-BE68-7F695D29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30FF2-9F7E-4833-9C5C-16A35FB6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FBB17-C972-47C0-8FB1-6D8DE311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5282B-E962-469E-A332-AC775F71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4C7C5-1CE2-4B6E-BDB4-5033DEF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7B5DE-2029-4303-94E4-265C5373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82511-45AB-4A3E-89FC-E00E8E43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3DE-CA14-40B6-83BD-F4DA9E90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FD9CA-16DC-41F4-BE8E-43005D12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FDDDC-6C94-49F1-8DA6-438EDBA6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33A9B-2725-45D0-9E59-EF391C18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66E23-76E4-460C-A751-0C43C042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F70DF-45DC-4D9E-8A72-FA7B326B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22234-F331-45A7-B096-69A9991E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2F718-7BF6-4B7F-BE77-73431B3E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C32C6-995A-4ABE-A738-37F98C5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20A7B-BE22-4700-A518-5421A6AF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988ED-FBA4-49E6-8A7B-7C63612F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F332-71F9-40F0-9EE7-7307C8EF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28569-E73E-4213-8BCE-1B9EF185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E3DE0-D0DD-441A-80A8-E06E9BAC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3A8AF-FC35-412B-B09E-357C0701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0F628-746D-4790-8981-DB57C3B1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EB212-AD19-42A1-893E-0B7BE73D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23820-3D17-4AD5-8291-657951DA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6F4CB-8A83-4BF6-9D40-ECAFD4D0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2E1B6-CC55-433D-B6B6-C9DE000F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C5B34-168E-4568-BECA-F7C19651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BCD60-5B71-40C8-A5CC-62F3A4B2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BCC8-FE84-4D72-B196-4CBEB28A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5F015-7643-4578-92DB-F17B4932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9D3E5-C932-4B23-8005-0362FAE0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9EFF2-3E56-4CF3-8529-465E9EB9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5FC55-6542-45CF-A4FA-6B380DB9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53AFA-CCF1-4590-B90F-3EF933C0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6F531-A718-43EF-91BD-3B2D84C6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EFCDC-632A-4166-BD2E-1D6D6C5E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C6B27-0FCB-47F4-B53C-168AB62A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76BF6-2CC6-4DAE-BB14-FB3D2B32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34B31-131C-45D0-9E7B-A5A8C7D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743C-8BA8-49A5-82ED-BB2052A6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3A011-8196-4158-81C8-B4A1F6B9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6F9C8-CB61-4E51-8F04-968DF33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4D444-11F7-43AA-BDC8-0BEAE25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F34BC-15E0-49EE-A1A3-EB8581CC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B2D43-65AB-472F-BEA9-0870C818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9742A-1C01-4262-90CE-A8D05201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E9AA7-AD3E-4469-9B28-9D1CA09B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A5D6B-F383-45BE-81D3-9269102B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9496D-53A6-4878-8D67-8D1B8B9D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0D6D0-C69F-4EB3-9A92-7FDA789B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71B2-FAD5-4E94-9F40-F0813DEF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6CD77-9054-43B1-9E2D-D419C36A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FBF58-C5D9-4BA3-9329-0CC9594E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B82EF-281C-4E52-917A-1FC6CA57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CE1DB-8D07-4A9F-AB97-1A247CC4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AB4FE-E80D-4F56-8321-532922E2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76C1E-9A80-4BB7-AE07-78EB0248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28D4C-E32A-4798-8B84-580D8D8A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7661F-9DDB-49B9-8EC7-2EC1668F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E093F-2D2A-42C6-8E42-C2101DBE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300C83-692D-4400-A4D3-1BD7C2A7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1B89-5D26-49ED-B4BF-809BC405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F25EE-5A77-4407-9E04-DED8DD58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F35A9-1CD4-466D-BB49-8AB8357E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32337-B0FC-4CA3-B29C-D3B7208A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34065-14F9-4B81-9F4B-733EB060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17530-0282-422F-B9DC-E4679004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A8ADE-9524-4965-B4C3-AE41F17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CC367-00E5-4B6D-9357-301B1EF9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64D21-E921-4DCF-AA6F-F09B9876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98C04-1487-46FE-B24C-2A4AE5B3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8BF9B-D17B-4088-8727-D9FCEC86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4FAE-AD0C-412C-A5ED-62A3B64F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2B407-37B9-4BCD-AF4F-432652AB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FD41D-B50F-4C69-A2BA-E31CCA40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3F437-370F-4875-A71E-0974C7FD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A9D02-A339-4A3E-872C-CF802182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965EC-DE60-4E92-B785-C8B65F37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5B4C5-1FC3-4999-9830-4A11B25C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A7461-69B5-415A-9A15-7F08C5B8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F3226-6215-497A-A3A5-F5949A52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6A04D-8E69-4380-B7DE-A27A6BBC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A58C5-C8F2-4A1A-BBB0-BF8F8C55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089F-418A-4953-B635-5051358F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EFD1B-63E7-48FE-B7BA-25756B3B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3B250D-7924-4D0E-A344-62D5EF99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418F4-B851-4422-83CD-AD1A9BFE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4AE0D-2E7A-42BE-B4FA-747F1DC8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6820D-B8D0-41B6-B7E8-B2285601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C9E07-C914-434D-8CE0-453112F6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60E5C-7E87-467F-B291-22411174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C13213-5023-4171-93A7-6F567A3A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0122DD-1E17-4F61-A492-30C47682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6507F0-7C38-4FA0-9105-9D3668DC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98E-6145-4E84-A843-09B77481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CE9A-0E79-481F-8AFE-92F0B2FF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5EACDB-9EC9-46DF-B66B-922992EF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514D1-5AC9-4C34-B30F-DB41B64C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338E6-AF5B-4DE9-8CA8-F68DEF5B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9C2F2-E28E-4DB0-9DEB-EA61D9B1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06D89C-ACDC-498D-83C3-9782BB04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45968D-0487-45BB-8DE4-335D5326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3F8637-7EEA-4F10-9EAD-A15C283D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4DE50-80B4-48DB-8AA4-5200ED58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26C86A-AE98-4837-8B75-1DCA2B33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A19D3-6613-4DA8-AD78-C673F9EB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793F-C164-4CC0-BD67-472DC366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3A2A4-1CFF-448A-B77A-5AC80F73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5722D9-BD19-4B72-9DD6-6FAE48AB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D2137-430E-44A8-A21F-64F61BF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1BB16-3341-4BF7-9BFB-12B7AAF8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7C6AD-2117-4658-B819-A7185AD9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650BF6-8504-448C-82E8-B7691C57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5C349-E6FE-42C2-B275-92D93993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BA3891-2B32-41F8-8893-543B7F21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99FCBE-F873-40AA-86CF-309D8CD5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1DEE0F-E809-40F1-8458-6734FB4E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A6D9-3731-4716-90EA-7ACBC1FB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37AF05-A95D-4942-8E43-2ED03CEB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CE400-9C0C-4757-8769-AD8717F3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51022-4036-490E-A769-A32C8479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F8184E-2014-4582-8620-762FD5EE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B4562B-D662-498E-8D85-65C73293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5A3D7-58D0-4A42-9DB0-DB41144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DEA991-E558-4647-9F48-4EB6BAEC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D77B8F-F3EA-4624-B678-CE1C95A5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C3111A-93C9-4AF9-A1DB-67C9A974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023F0-A87E-44C4-B153-1122E1EC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B858-8698-404B-B02F-109847A4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91478B-5B6F-4FEA-BAFA-320D2C7C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BC48FA-7847-4775-842B-659935F1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22167E-ED36-4DD2-BB9C-719B2015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1977BE-508B-4817-833F-A7BD3C4F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402F4-5D69-402F-8094-21E57730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EB7995-73CB-4F37-8C2F-67589812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B379F8-8BD2-47E5-BD16-D100BFD1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45E2E-B981-436A-929E-1A2A03DD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560166-0751-4721-8E0A-9405F701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FEF0E1-09F8-444C-80F3-8E298898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C6FA-309C-416A-9B69-E8A2CECF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FDBCA-EF15-4727-9DAD-DFC21D13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91C6EF-C56B-4D4B-B33E-36B36898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95E27D-51C4-4B25-B6CF-09CDB2AF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D643F-28D9-4E6F-8E83-B57F1AE0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79C921-5895-4562-9CD9-17FEAC71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66A85-4A42-4E90-B4BC-BB6F8707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F6AC4-4B2C-486B-AC24-BB89749A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812ACF-B417-4B98-933C-2269738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171DB3-485B-4552-9F88-62CF6FB6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669C23-BB31-4059-AED5-C22F99F8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D822-21FC-42CF-B5E7-6AE8780D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367B6-1F2C-4FCD-BD3A-BB69BDF5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A53475-6389-4F6F-BC8A-B7B3491E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26011-2969-403B-B875-EC2C1502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FE764B-4926-4896-8160-B3BBBDE0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AF1D14-6A0B-438E-9108-D66C577B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1FB109-F58C-4272-A116-A71E01F4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80A149-B2AE-4AA9-B662-C013A32D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83E466-AF73-4838-996E-942CD528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863908-58CE-44DE-9349-385B9BA6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E7C83F-CCE1-42FB-B6F9-14D1B350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17ACC-D408-41B9-9B9A-F56CC858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C4E607-8952-486E-A8CC-896438B4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43DBC9-2538-4A26-A786-512D5A86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2A1853-E96E-4763-A0C5-EA5AFE77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E336BB-4701-4679-A642-AFE72109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277E9E-7BAC-4562-9CC6-B73AEA43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2D86DA-D5EC-43ED-A36B-988E5198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FE94A1-AEB8-4F4C-9286-C8672581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D86AA5-F2BE-404C-AE30-FCDEF275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E8353A-DF5D-43B9-89D6-482E0057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47C75D-F794-4BB1-8194-96529E56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9BD7-5084-4382-B93F-FE78CE5C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A61A00-BF20-4A7D-8F19-DA3143FC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E2B037-8822-4796-B568-DE09A7D8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F7E332-14B4-407F-9B2B-427813B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B01818-FCB3-4A0D-81D2-D22DB505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866223-7EBD-4323-91A3-B2217154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E63461-4A78-497E-9BA3-983C8B74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1DEC28-D97C-4337-9065-6F0463A2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13037E-C3D8-4464-B782-EDC75923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944172-2873-4C60-8FA4-150026E8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E1C8A1-EF3C-4C21-8D24-6B9EB30E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AB06-6AF3-4E45-B579-9E4B9726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007BA0-9397-4591-8E26-F90CFBA7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1409D9-ADD6-451D-9A3C-B2413200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7D44E9-4578-4EEE-BEC3-0DA3A560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3DB0FA-6AE6-4D0D-9973-95B2F6FD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D2AC85-09DF-4C50-94BE-BE928707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B078D1-F640-44A9-8E4B-86EB6794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24A430-CBE0-4D32-B289-CB4AB72F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229242-0A93-4492-9292-74FB512C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74CAC0-A960-432A-9326-749906AA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CE61C1-9641-4000-8E40-E69B61AA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F517-6A76-45C6-84A3-50DDC53A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09FB7F-4E34-49DB-9FE1-C00B4DE1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DF326A-4195-46B3-AC10-999F230B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78E05D-3FE3-4B80-A475-8B05B608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BD136D-5173-4896-87CC-E8A38392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328AB1-5846-4213-8F6B-50256D88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4761FB-E4A6-4F5C-A144-CB68FCC1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0DD967-366B-48AE-92FE-576B9F44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6FEB79-6A6E-4248-966A-43514300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96D5CD-93A1-46EA-9B35-B8E4A7B7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EF3E7C-8064-48BF-A843-FE595B08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55E-206D-45D2-BB8B-6D6FF0F5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14C1-C336-47A9-A07A-89FEA313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F0DD80-B1F8-4F54-9917-91655F87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D1F59A-D813-49DF-8E1F-E3547BB1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51F7E8-B746-4753-B8DE-6BED23A4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9E11F8-C408-45DD-AF6C-32416AEE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482229-7E4C-481F-9DEB-214D3A6C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685BFA-B469-450B-A957-604AABAB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C28C74-9D2C-4364-8424-F8220350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5D29D3-2754-4B6C-B342-99B865C9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63AA5C-E965-4E56-82CF-E1878C5B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B6ACDA-5BD8-4AE8-A001-29F1D75E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AD19-69CB-4680-BEFE-F8E2483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75708E-2FC2-49B8-97AB-F3ECFF92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4A6770-E1F7-447E-846C-F18AA390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25F253-595C-4FD7-B5F2-20C1F280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61A31B-2A62-4235-AB73-7DB969ED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A34141-E1D3-4B4E-BB13-A8CF4D01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7C6801-A1ED-455D-A561-793A3D52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BB01B8-9306-4ABF-B117-65E2018F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1FFB20-5CF6-48BE-A7C4-74AC999C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14BB37-1B5A-4AF0-AE43-2181D642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1B7E10-E98A-4D51-BFB9-B08B284F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402B-E907-4872-AFB7-882F8C50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933D78-CDEE-4FE8-83C4-1CCEFAE8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8B9A67-EC61-42B6-9514-50D8BF78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FFABBB-1EBC-4AD6-B88C-00120A27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6686DC-393A-4970-8DF2-3C0BF99E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E2519D-058A-4962-953D-B9FB6EC5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37FF48-3143-454A-8D16-6127DD9E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7E88D3-59FC-4454-A6B0-D63A4A0B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BC6163-58EE-41B5-BA89-03EDFB9B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64FD91-EBBF-42E4-8E03-3258FD7A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DF2CD6-75AA-483C-AFEF-710ECE1A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3003-D02F-43B1-807A-09E452A7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59F1C0-F3CC-4C68-861C-E38E9E81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8319A2-D357-4878-AA91-C4ED1FBF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4FC267-8B7D-47BC-9695-99627C0E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272EAB-205A-4F1D-8E1A-BA2BDB95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C1362B-727C-485E-AE9F-805E1163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1EC026-2A87-48C0-B0C7-279D6E98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58BADA-CBAF-42AA-BDA1-6CF31AD6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B8A3F3-0B96-4598-84C2-9E3B065B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CA3B77-DF9B-4B3F-87F2-B2591C06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DC92C5-54D0-481E-91B4-03D0C688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863B-3AF5-4814-84AC-718A657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65859F-A4F5-4681-98F7-23A68BF2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0F4478-8E43-471C-B1BD-27626C97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ACAC2F-8162-40EA-ABFD-4AAD1254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7991C1-939E-4DE9-98AD-85C65533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37207D-A14B-4192-A4EC-A6709B3B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D059B9-1523-4F0D-B76A-F753151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502CCD-76B8-4782-9D3D-3B4BBB54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9BB25E-0503-4336-A6B1-4C9BEA5F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5A0B40-9DFD-4756-902E-C44AF266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EE8961-9225-4E3C-8AE7-9F94ECC9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9D4D-7C77-47FA-BCAD-2E88613F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9C64AA-4267-487C-8B76-E15654C0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7287D0-7C2E-4742-8771-1AB2BCA4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6E09D3-CD72-4FE2-9BDE-C2E78328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D9AF38-05CB-4AF4-B6F3-B73ACA88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3D176B-CFED-418C-B469-C86B1798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031CA3-321F-4C14-BE74-02BADB6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C80284-9C55-40B5-BC4A-B5DD008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3F9283-1A45-46D1-9679-A8381077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E71643-DAF7-48C9-BE30-1F5E6767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A922F7-4311-4E56-B3BA-0DD26B37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FA11-A1CB-476B-B439-38D18575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56C5DD-4E85-4BE9-AB3F-EC7B3219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704F15-3AA6-406C-A9D3-2979DD94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F884E9-4FCB-47ED-8FBA-CD8117DC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880F98-EECF-4AF4-9CEC-7E07EFB4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D6C9EA-ABC8-4F9D-A634-E8BE2BF9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E9E3FB-E6CB-47A6-99A3-62E7FFD3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C44BCC-4EF0-4D93-8E70-137108FD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BA48CB-A557-4402-9E83-D8426891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45EC85-4E36-477F-ACDA-C4F30C95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EED840-8A17-48FE-B070-F079A830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2CD4E-1BDA-4522-94C4-8137C630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01397C-93F7-4FAD-8AA3-03D02A94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C23704-9186-464C-BF47-CE79E362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5B97F7-5B1C-489D-9DDD-B437F2A7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79E180-8522-4E61-9894-C0EA20F3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F38338-8683-47B7-9612-12E8067A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5F6593-2B1C-484E-9E18-9545663A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7FA1BA-BFD0-4AF5-84DC-1C091A5E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C33D89-E154-43D8-9DEE-6BDF32AA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E54415-0C4C-43A0-B1EB-C588F2A1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BD3CF7-EBBB-49E8-9AB0-BFA50FF3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359CF-EB3C-4594-91D3-104126E8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1CCBD5-7AFF-456A-ACEE-7209FC17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712B79-5666-4375-AC3C-5CD189C8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86A505-9AA2-4F51-8A29-11CE745B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4673CD-A70D-4465-9EAE-A6CCC93A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D4637F-079C-49F4-B487-C7601F52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A26E98-A3CD-4C13-A3E3-09C83EA9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6D4CE0-CF41-4D9C-BA7C-81787DDD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005470-15B4-4175-8F04-1661EAA3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ED04C5-4129-4F9D-9825-00210AEE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45B009-CCA4-4EC1-99AC-1A9AF1AE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3F05-C696-4E80-B88C-822712F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580767-18D4-432F-8F49-96807DE1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ABB49B-9C08-4520-84E7-D48F63CB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F0EF96-A0AC-4FDB-B000-6F75152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B26CC9-9331-474B-87E1-39C8836D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70529D-B0BE-43C5-AD19-68B836E7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474805-AD2E-4CD2-A7B3-5CDCE23E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FA575F-9D42-43EE-817F-D1B1FA01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75B7D4-0EEA-4B43-BB60-F559384E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B2EBBF-8FA5-42AD-8DE9-1911184D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6E3BB9-2909-4916-828F-60A66D06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F07-6068-47BB-9CF9-B22B568C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B33A-0711-49FF-95CC-FCBDBA45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D2EE5E-4240-4532-972C-803E6384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60DD97-DB07-479B-ABDF-1563DDF3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A35865-AFFE-42D2-9A14-CCCA7E07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AE73B9-AD80-410C-BE92-D4D4B8C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B5DD13-6DF1-47C6-B9CE-118887EC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10EFE5-E0A3-4F74-96C8-9B00A189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4DD47B-B734-45EA-8BF1-C1218343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890B58-813C-4CA9-A094-871C145D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CB8B96-789F-4223-8C2A-5E7D89F7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B32AAE-E3C7-4089-AD89-692C0C44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B6404-831D-4D7E-A913-7A41EB61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64D19C-80D1-4F49-A737-C223C443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849B13-36ED-426D-AF06-34619F51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313C0D-521B-49E2-8E76-1A8C83AF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276019-D006-42B4-BA90-7CD1954B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78DB82-B7C4-4CEA-B857-EC007992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A1D036-904E-4CBE-8A11-D8DB8736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D5542C-54FD-41DF-860C-7F917C8E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DCD992-BF41-4F40-B5CE-07D15061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D8B658-4446-421D-B8E0-187E06C1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670289-674A-47BA-9395-8FB3EB76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D217F-11FF-40A4-A019-AE1642FB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632E9E-5766-4622-8EED-16D92164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7DA81B-4046-490B-8385-2AD28853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608AA3-9E99-4631-8D14-F68F3FC7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B615F8-2ABE-4DFD-80D5-5658D10D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FD2B7E-8183-4BDA-B95F-F8F54FA5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D98B51-B814-40F0-969A-219A5729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12B7722-7AA4-44F9-A2A0-6D0D6082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18B99D-F01B-479A-9FFB-B88C1FEA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ABB5EC-C2DF-4D99-81DC-FB52A383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F2BEF5-1264-440C-B28B-C7188182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4A04D-7F58-4751-982B-FAE81D5B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67DAD3-8659-4FE9-9E8B-6983FC1F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062EA5-E42A-4724-BA97-6C86C21A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8B9BBD-09AD-41F6-9873-2A784FDA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CDDA-03E3-4EA2-9022-75860D77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B181-2587-4FE9-86A2-A730BFB8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5BA9-18AA-4C6C-8C51-8050AADE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0BA82-7D2A-4096-9351-56B345FC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287A8-8AC6-48F1-9170-CBC75563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128C-D49D-4D16-8E67-EA1AF383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876-D689-4605-ABDD-88860493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E7DE1-9B01-4A24-98C9-71EA0A8E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D398F-6A2B-4FB1-AA04-E7FDFE73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A8E5-E1CD-415D-8EEB-68D31D4E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6281-79C5-4A84-8C8D-9DF39FF3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F8341-E21E-4167-A4EE-C539432D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05148-FF70-4E9E-9A8C-D0FEBE3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7D742-5775-4B16-AF3A-603922EC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5119-B88C-466E-B28B-F92C7332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353D6-B773-4448-BEE2-680A5274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567A1-2EB7-4DEF-8003-EF1FE637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536-B96C-4397-8D68-23ED3FFF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A90E-A6B9-41D6-A5B6-162BE3EC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28E8B-92F4-4B09-9DEE-F20F1A61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F582E-9982-4C6D-9817-8D5BB175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BBE3E-CAF3-42D5-83A9-85127116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27F2D-0A42-4D77-AD57-FB4FC30D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E3128-74A4-41F4-A936-B7133DF2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490B8-16CA-4CBD-80C9-41E5ED47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63BB0-BDAE-46EC-A03C-584D680B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9479C-E2D9-4248-9D67-DE072E7A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C2F2C-8055-45D8-8B7B-F906C280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4E5-1930-4D53-B1AC-B749B1E5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F95A-81FB-41D6-AF98-278AA41E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FACD1-3B44-4F64-A4F7-49CA7012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DBB69-E57E-4AD3-B4C4-4FEECCC2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605A7-B602-4E6F-9DFE-3003BD82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86337-DBBE-4E2F-804F-712CDF88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CDB23-4687-4F2E-9B9B-01BAB4B0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A8EDE-8B35-4752-BE87-5480BDEE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CD84D-B778-447B-A45E-008CEF12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99659-C0E1-415D-8B96-F47F928D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E18F7-5255-4BF1-A445-E3850F5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665-A826-4EE4-BEA3-F31519F5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C73F4-456D-4E0A-9E24-0CD87517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F58E-511E-43F3-BE52-899C70C3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2182-BCED-4FD9-BC53-A9DE05FC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D8188-36FA-4E52-A541-4F0E7C3A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C24E7-0899-4621-B2BD-1C8665F3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2FB69-2F62-4016-8EBF-1E7926D7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AC808-199E-4065-9E41-CB85A4F7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FB3F5-9E10-4A63-9144-4A0B2E2D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B6F71-92EF-4722-972C-7E3F0B49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939B3-6D06-4968-8F69-240CC3BF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47E-644F-4D1A-9DBE-B623E716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FB853-1C3E-4556-AA7B-EAAA53D6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A8E7E-5562-4109-8ACA-72D01CD1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6A293-02F7-46E6-8069-9623DE3B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2D9AF-02D4-44BA-873F-BE359172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9C83C-E9F0-415F-8186-C162C66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169D9-EF1A-4E5C-8A27-77F29D25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EA1B2-E9CB-4AD6-A88C-9DAD44E4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DF0BD-327A-4BFC-AE0E-A0ED8ED2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A8FDD-36EC-44DF-B1BD-A441BDA1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1A557-B2C7-4A01-8B7F-1E0FD1CF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5B23-2C96-4C98-9CBD-5FFD78D7E02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8B38-1310-4FEE-A3B1-9F0F00ABCEC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F644-7414-4FE0-8EAF-23EA93012B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38EF-F940-4DCA-A5F8-35BF973BC4F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7B79-D13C-4B41-A16A-F4EE3D34DF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4329-876D-42B7-85A2-F35A1A87059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4DAF-D2AF-4724-9056-9C18F9FE758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8056-A933-43B3-81CB-A6B509E4C4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D77E-7F96-414E-BD5F-FEE182CE5EB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B1AB-8F7C-4B5D-8227-9FAB9FD5EC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B1AA-2627-4FCD-999D-682ECA747BF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2A9E-9FFC-4642-9826-22A4D4EE7B8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1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2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 type="sldNum" idx="60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6602-1EE1-4610-B881-ADEFACF534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9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CC05-2135-4A65-B8D3-20E85ABB35B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5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6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sldNum" idx="6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CFD2-5EB2-4BB6-AEBC-6737C6AD66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2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3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6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933B-2CEA-428C-A30D-0F5FD70F636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8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0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 type="sldNum" idx="7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E502-8995-4EE8-9D6E-88C621BE63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6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7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7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7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A9E5-65B2-470F-80E9-FAF997E8F8A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72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74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 type="dt" idx="7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 type="ftr" idx="7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 type="sldNum" idx="7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FC53-5233-42C9-9E16-846C97A1E7F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7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8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 type="dt" idx="7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 type="ftr" idx="8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 type="sldNum" idx="8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2D92-D5C2-4174-87C3-FF930EDC27B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86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87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dt" idx="8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ftr" idx="8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 type="sldNum" idx="8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CF34-CA0E-449F-9E61-6FE42B23341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93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94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 type="dt" idx="8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 type="ftr" idx="8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 type="sldNum" idx="87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B768-7286-480B-8B3A-AE181A60E0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9634-E342-4EDB-9F8F-43064446AF6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0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01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 type="dt" idx="8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 type="ftr" idx="8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 type="sldNum" idx="90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F02E-8ECC-433D-8D42-7C4EE764EA7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0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9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9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9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360D-DAD8-499A-853B-9234F96845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14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15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dt" idx="9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 type="ftr" idx="9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 type="sldNum" idx="96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DD54-DF86-43F2-95DB-59D254F28FA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 type="dt" idx="9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 type="ftr" idx="9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 type="sldNum" idx="9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7460-C5D5-426F-9306-E1D02D1F1AE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 type="dt" idx="10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 type="ftr" idx="10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5"/>
          <p:cNvSpPr>
            <a:spLocks noGrp="1"/>
          </p:cNvSpPr>
          <p:nvPr>
            <p:ph type="sldNum" idx="10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CDD3-197A-4C53-ADAD-43A289C6CCC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3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dt" idx="10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 type="ftr" idx="10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 type="sldNum" idx="10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7591-5934-4C71-90E3-C2ECB7D4913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4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4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 type="dt" idx="10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 type="sldNum" idx="10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8871-DE3D-4ED3-9A4B-5543B269FE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AF16-6AE3-47CB-8CBD-74B9010E9E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C191-CC44-4C50-8902-0CBC7D1228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C91A-F379-4929-993D-6F0CD518E5A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17A0-4B97-4729-8276-88A980CCF3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7316-AE79-4E62-AB0A-A558A2BBAB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64FA-BB0D-4888-880D-F3534BAE347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entury Gothic"/>
              </a:rPr>
              <a:t>Доли.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entury Gothic"/>
              </a:rPr>
              <a:t>Обыкновенные дроби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                                 5 класс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30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Как единица на доли делитс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Людям часто приходится делить целое на доли. Самая известная доля – это, конечно, половина. Слова с приставкой «пол» можно услышать каждый день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entury Gothic"/>
              </a:rPr>
              <a:t>Полчаса, полкилограмма, полбулк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878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Возьмем отрезок и разделим его на 4 равные част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Каждая из равных частей называется 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доле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Каждая часть –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493" name="Picture 15" descr="отр"/>
          <p:cNvPicPr/>
          <p:nvPr/>
        </p:nvPicPr>
        <p:blipFill>
          <a:blip r:embed="rId1"/>
          <a:stretch/>
        </p:blipFill>
        <p:spPr>
          <a:xfrm>
            <a:off x="5715000" y="1665360"/>
            <a:ext cx="3124080" cy="204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94" name="Object 20"/>
              <p:cNvSpPr txBox="1"/>
              <p:nvPr/>
            </p:nvSpPr>
            <p:spPr>
              <a:xfrm>
                <a:off x="4502160" y="3213000"/>
                <a:ext cx="139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249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6" name="Object 21"/>
              <p:cNvSpPr txBox="1"/>
              <p:nvPr/>
            </p:nvSpPr>
            <p:spPr>
              <a:xfrm>
                <a:off x="4546440" y="3746520"/>
                <a:ext cx="4384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54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Круг разделили на шесть равных часте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Каждая из частей составляет одну шестую круга 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Пять частей из шести закрашены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Говорят, что закрашено </a:t>
            </a: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Century Gothic"/>
              </a:rPr>
              <a:t>пять шестых</a:t>
            </a:r>
            <a:r>
              <a:rPr b="0" i="1" lang="ru-RU" sz="28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круг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2499" name="Object 6"/>
          <p:cNvGraphicFramePr/>
          <p:nvPr/>
        </p:nvGraphicFramePr>
        <p:xfrm>
          <a:off x="5462640" y="1600200"/>
          <a:ext cx="2409840" cy="21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2640" y="1600200"/>
                    <a:ext cx="240984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01" name="Object 7"/>
              <p:cNvSpPr txBox="1"/>
              <p:nvPr/>
            </p:nvSpPr>
            <p:spPr>
              <a:xfrm>
                <a:off x="6610320" y="4871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Object 10"/>
              <p:cNvSpPr txBox="1"/>
              <p:nvPr/>
            </p:nvSpPr>
            <p:spPr>
              <a:xfrm>
                <a:off x="4502160" y="3213000"/>
                <a:ext cx="139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Object 11"/>
              <p:cNvSpPr txBox="1"/>
              <p:nvPr/>
            </p:nvSpPr>
            <p:spPr>
              <a:xfrm>
                <a:off x="4502160" y="3213000"/>
                <a:ext cx="139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250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5" name="Object 12"/>
              <p:cNvSpPr txBox="1"/>
              <p:nvPr/>
            </p:nvSpPr>
            <p:spPr>
              <a:xfrm>
                <a:off x="6370560" y="1600200"/>
                <a:ext cx="596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6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7" name="Object 14"/>
              <p:cNvSpPr txBox="1"/>
              <p:nvPr/>
            </p:nvSpPr>
            <p:spPr>
              <a:xfrm>
                <a:off x="6948360" y="2276640"/>
                <a:ext cx="4352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457200" y="102960"/>
            <a:ext cx="8229600" cy="62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исл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и так дале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называют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entury Gothic"/>
              </a:rPr>
              <a:t>обыкновенными дробя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Object 6"/>
              <p:cNvSpPr txBox="1"/>
              <p:nvPr/>
            </p:nvSpPr>
            <p:spPr>
              <a:xfrm>
                <a:off x="2627280" y="404640"/>
                <a:ext cx="180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3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4" name="Object 8"/>
              <p:cNvSpPr txBox="1"/>
              <p:nvPr/>
            </p:nvSpPr>
            <p:spPr>
              <a:xfrm>
                <a:off x="1187280" y="2565360"/>
                <a:ext cx="2271960" cy="338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5" name="Text Box 10"/>
          <p:cNvSpPr/>
          <p:nvPr/>
        </p:nvSpPr>
        <p:spPr>
          <a:xfrm>
            <a:off x="3543480" y="2781360"/>
            <a:ext cx="31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ислитель дро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казывает сколько долей взя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Line 12"/>
          <p:cNvSpPr/>
          <p:nvPr/>
        </p:nvSpPr>
        <p:spPr>
          <a:xfrm flipH="1">
            <a:off x="2700360" y="3068640"/>
            <a:ext cx="792000" cy="4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Line 13"/>
          <p:cNvSpPr/>
          <p:nvPr/>
        </p:nvSpPr>
        <p:spPr>
          <a:xfrm flipH="1">
            <a:off x="3276360" y="4292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Text Box 15"/>
          <p:cNvSpPr/>
          <p:nvPr/>
        </p:nvSpPr>
        <p:spPr>
          <a:xfrm>
            <a:off x="406728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Text Box 16"/>
          <p:cNvSpPr/>
          <p:nvPr/>
        </p:nvSpPr>
        <p:spPr>
          <a:xfrm>
            <a:off x="3983400" y="399888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робная че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Line 17"/>
          <p:cNvSpPr/>
          <p:nvPr/>
        </p:nvSpPr>
        <p:spPr>
          <a:xfrm flipH="1">
            <a:off x="2916000" y="544500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Text Box 18"/>
          <p:cNvSpPr/>
          <p:nvPr/>
        </p:nvSpPr>
        <p:spPr>
          <a:xfrm>
            <a:off x="3829320" y="5151600"/>
            <a:ext cx="329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Знаменатель дро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казывает на ск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долей разделили еди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1000"/>
                                        <p:tgtEl>
                                          <p:spTgt spid="2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8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Rectangle 5"/>
          <p:cNvSpPr/>
          <p:nvPr/>
        </p:nvSpPr>
        <p:spPr>
          <a:xfrm>
            <a:off x="1258920" y="836640"/>
            <a:ext cx="649080" cy="649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Rectangle 8"/>
          <p:cNvSpPr/>
          <p:nvPr/>
        </p:nvSpPr>
        <p:spPr>
          <a:xfrm>
            <a:off x="1908000" y="836640"/>
            <a:ext cx="649440" cy="649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Rectangle 9"/>
          <p:cNvSpPr/>
          <p:nvPr/>
        </p:nvSpPr>
        <p:spPr>
          <a:xfrm>
            <a:off x="2556000" y="836640"/>
            <a:ext cx="64908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Rectangle 10"/>
          <p:cNvSpPr/>
          <p:nvPr/>
        </p:nvSpPr>
        <p:spPr>
          <a:xfrm>
            <a:off x="1258920" y="1484280"/>
            <a:ext cx="64908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Rectangle 11"/>
          <p:cNvSpPr/>
          <p:nvPr/>
        </p:nvSpPr>
        <p:spPr>
          <a:xfrm>
            <a:off x="1908000" y="1484280"/>
            <a:ext cx="6494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Rectangle 12"/>
          <p:cNvSpPr/>
          <p:nvPr/>
        </p:nvSpPr>
        <p:spPr>
          <a:xfrm>
            <a:off x="2556000" y="1484280"/>
            <a:ext cx="64908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Rectangle 13"/>
          <p:cNvSpPr/>
          <p:nvPr/>
        </p:nvSpPr>
        <p:spPr>
          <a:xfrm>
            <a:off x="1258920" y="2133720"/>
            <a:ext cx="649080" cy="649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Rectangle 14"/>
          <p:cNvSpPr/>
          <p:nvPr/>
        </p:nvSpPr>
        <p:spPr>
          <a:xfrm>
            <a:off x="1908000" y="2133720"/>
            <a:ext cx="64944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Rectangle 15"/>
          <p:cNvSpPr/>
          <p:nvPr/>
        </p:nvSpPr>
        <p:spPr>
          <a:xfrm>
            <a:off x="2556000" y="2133720"/>
            <a:ext cx="649080" cy="649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Text Box 16"/>
          <p:cNvSpPr/>
          <p:nvPr/>
        </p:nvSpPr>
        <p:spPr>
          <a:xfrm>
            <a:off x="4119480" y="639720"/>
            <a:ext cx="42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Text Box 17"/>
          <p:cNvSpPr/>
          <p:nvPr/>
        </p:nvSpPr>
        <p:spPr>
          <a:xfrm>
            <a:off x="3635280" y="1546200"/>
            <a:ext cx="5184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а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колько долей разделен квадра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Какая часть квадрата закрашена красным цве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Какая часть квадрата закрашена желтым цве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5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5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5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5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500"/>
                                        <p:tgtEl>
                                          <p:spTgt spid="2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3" name="Object 9"/>
          <p:cNvGraphicFramePr/>
          <p:nvPr/>
        </p:nvGraphicFramePr>
        <p:xfrm>
          <a:off x="395280" y="1268280"/>
          <a:ext cx="4808520" cy="43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480852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5" name="Text Box 10"/>
          <p:cNvSpPr/>
          <p:nvPr/>
        </p:nvSpPr>
        <p:spPr>
          <a:xfrm>
            <a:off x="4427640" y="1773360"/>
            <a:ext cx="439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акая часть  квад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крашен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1.красным цве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2.зелёным цве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3.сиреневым цве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4.голубым цве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7:52:28Z</dcterms:created>
  <dc:creator>Рита</dc:creator>
  <dc:description/>
  <dc:language>en-US</dc:language>
  <cp:lastModifiedBy>Admin</cp:lastModifiedBy>
  <dcterms:modified xsi:type="dcterms:W3CDTF">2019-08-16T09:15:29Z</dcterms:modified>
  <cp:revision>7</cp:revision>
  <dc:subject/>
  <dc:title>Доли. Обыкновенные дроби.</dc:title>
</cp:coreProperties>
</file>